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A15-EBED-42D0-BA13-9E16E29B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F2E-6862-4FC0-8860-7EB47F72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7C6-EE78-4520-945E-C25AE386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C4E-00B6-48D1-954E-629DA99D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B658-FDD7-40E7-9062-5A88FAA4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B3F-FF41-4222-AD74-A505E8BF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B63-3EB2-44FB-AC3C-5A4F28D6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A90-05CB-49C7-ABB5-3D5EB1EE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54E-FED0-402C-934A-4F6BA611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9CB-2813-4B90-AE0D-6916E28A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4BE-49D7-4A3D-AE38-960A6158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279-EC3E-4B43-97E5-058504F4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465C-2EF2-41A8-8AD5-8BAEA2B1C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369800">
            <a:off x="5562720" y="76176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efedd"/>
                    </a:gs>
                  </a:gsLst>
                  <a:lin ang="4032000"/>
                </a:gradFill>
                <a:latin typeface="Arial Black"/>
              </a:rPr>
              <a:t>Em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efedd"/>
                  </a:gs>
                </a:gsLst>
                <a:lin ang="4032000"/>
              </a:gra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20122800">
            <a:off x="4723920" y="2666520"/>
            <a:ext cx="27529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edcfe"/>
                    </a:gs>
                  </a:gsLst>
                  <a:lin ang="6876000"/>
                </a:gradFill>
                <a:latin typeface="Arial Black"/>
              </a:rPr>
              <a:t>Fran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edcfe"/>
                  </a:gs>
                </a:gsLst>
                <a:lin ang="6876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2011200">
            <a:off x="5714640" y="480024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efedd"/>
                    </a:gs>
                    <a:gs pos="100000">
                      <a:srgbClr val="ffffcc"/>
                    </a:gs>
                  </a:gsLst>
                  <a:lin ang="3390000"/>
                </a:gradFill>
                <a:latin typeface="Arial Black"/>
              </a:rPr>
              <a:t>Wend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efedd"/>
                  </a:gs>
                  <a:gs pos="100000">
                    <a:srgbClr val="ffffcc"/>
                  </a:gs>
                </a:gsLst>
                <a:lin ang="3390000"/>
              </a:gra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857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43200" y="5410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5000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27800">
            <a:off x="5638320" y="1600200"/>
            <a:ext cx="2994120" cy="3048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247600">
            <a:off x="762120" y="1905120"/>
            <a:ext cx="2971800" cy="252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1244800">
            <a:off x="3200400" y="4266720"/>
            <a:ext cx="23623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d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19657200">
            <a:off x="304920" y="1066320"/>
            <a:ext cx="4343400" cy="2486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1752600">
            <a:off x="3962160" y="3200400"/>
            <a:ext cx="4848120" cy="257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2356200">
            <a:off x="5181120" y="914040"/>
            <a:ext cx="3267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 Rounded MT Bold"/>
              </a:rPr>
              <a:t>My Scho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676160" y="4571640"/>
            <a:ext cx="759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286000" y="52578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ed0c5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0192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H="1">
            <a:off x="2590560" y="1752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295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2876400" cy="270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 flipV="1">
            <a:off x="3047760" y="4419720"/>
            <a:ext cx="1447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3520" y="6095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869400">
            <a:off x="3351240" y="40370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899400">
            <a:off x="68508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286680" y="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29200" y="1676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1219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562720" y="30481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4038480" y="5410080"/>
            <a:ext cx="1447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370600">
            <a:off x="3505680" y="5257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erl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7:10Z</dcterms:created>
  <dc:creator>CGB</dc:creator>
  <dc:description/>
  <dc:language>en-US</dc:language>
  <cp:lastModifiedBy>CGB</cp:lastModifiedBy>
  <dcterms:modified xsi:type="dcterms:W3CDTF">2008-06-09T13:45:31Z</dcterms:modified>
  <cp:revision>7</cp:revision>
  <dc:subject/>
  <dc:title>!ME!</dc:title>
</cp:coreProperties>
</file>